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8D5-5E26-4D0A-9D8C-58224D02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4DD-204C-4F44-9AFB-92FBD2CE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CE0-E86B-4B57-8A48-CDF48862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6FA-9E4A-4D33-AD63-026FE2B5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929-0D6E-4FC0-8EF6-F1D08031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DBB2-D400-4DEC-A463-FDAF213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1383-6199-4FC8-B1CA-212AD18E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6B34-9A17-477C-B80C-F77CAA1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A058-46F1-47FA-B98E-8B1C213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7F63-59D4-4F3B-8321-4EE837DC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893-7024-41A6-9CD1-A8ED1B9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CE0-CA22-43F3-A291-BB792606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9FC-89EB-496D-BC69-E2CB3AF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3372-7940-476B-80D6-226358F6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D4DD-B4D0-4D75-98B4-FDF04F89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4A09-3B94-4703-B910-AFD5CE54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8B26-87F3-4E25-B9D7-15441C64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7D3E-85FD-4DF1-A8C9-C395466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BCC1-7715-47B5-945A-39E1741A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FAE1-7A62-4762-8E9D-28B101D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537B-14CD-4AD3-9BE0-D45F1C3F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0D57-20A2-48D3-9ECB-011C911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580-AA79-4EC5-A496-793661F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B189-B059-4D31-92EF-1D139A6F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1D3B-ED50-469B-88DF-5BDF24C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9009-CF66-420C-8E68-C022173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0DA3-6D4D-4746-B6B8-241C679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9B59-31AD-442A-9D86-BFC535C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279F-4D0E-49AB-AA94-656A523C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5DA1-CF77-40C0-AFC2-5E17AF8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7B13-B24A-4476-A683-31FF7126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0C48-6F33-4C74-9DEA-231B137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A68A-363A-4BDF-A52D-2664068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1A7-E639-49AF-B2B3-D54E026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2080-54C6-403B-9A69-DB9176A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9B62-A60E-46E8-A943-3144431C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4162-7ECC-4977-9FF9-EEC9AD4D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1FFC-F6B0-4852-BBD4-1FC1EC54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7584E-8266-419E-8ECD-5B932DF7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1B69-7F92-491A-AD10-0C9C037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8B8E-EB5B-4E22-B0A5-E48C7AD6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B0D6-D4CC-4AFF-9C1C-C6BD3BA3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7D88-E34E-4ACB-91B1-DEFEC2FE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23C5-E72D-4EB6-BC7E-D4E94752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139-BD4C-4607-B6B8-577C4E8A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FA5C-EFBF-4DB5-9387-AE1131A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77D5-5899-4E3F-8117-32E829E6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815C-97A1-4065-970A-1B90CDA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89E7-809D-4238-A784-017CB60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EAB0-A47D-4779-B680-58F34C6B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FACF5-0471-472F-87E6-9DDA9DD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13FA-F466-49EE-ADE9-C2B1202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89AA-28A2-41DC-ACA0-29FEC70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5B72-AABF-4FFE-9EB8-DDEE6BF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A2C8-35EA-4B67-A587-C99E1A45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462-5982-40A6-AC8A-8B4FB06E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94E8-4493-4B6F-9411-2FEA1D13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70C1-BFEF-45C8-81C6-D4041508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28583-1031-43E1-BF82-C8FAD22B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0B92-5F2E-4C45-8974-821ADB52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C744-8309-4FF6-B986-F20F5C0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DD86-4D1C-4DEE-96D2-8E3EB6FD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E19AD-32F5-45C1-A713-959B535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AC0A-5D13-4493-9BF6-033317B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70A0-9A7C-4FFE-AFAC-5ABDD0C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2BCE4-6E4C-48B5-ACF4-9D597AD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46F-DD2B-4D8F-B313-5A14A9E9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D198-C33E-4BC1-98BD-0B1BD41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0502F-2A32-4D4B-840B-3BB3F0EB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B3392-9480-413C-966E-E165F778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D950-378A-4B9B-952D-7B46A41A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EF5B-6E74-4A9B-9F53-1844B32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6B89-1567-4A24-951A-4B4FA0C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A5A2-AB83-419F-91F0-66627ED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BA25-289B-4CC6-B910-CB68A93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93C42-D058-4CF8-BE8E-355895BC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EF99-26D9-458C-83C9-BC18142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0DC-B2E1-4399-8868-F116F0E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0318C-1C12-48C5-BFA3-230FE83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903FD-F65C-4CAE-88C3-E2D049F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ACAB-F422-4116-B893-64373F58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473D7-489C-44FF-9D4A-CB706C63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7D457-EFD9-4BD7-A3BA-BAD4C45F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F904-323F-4811-A6EC-B8F3AD0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FBCD-8AD1-4175-A9EB-33EA667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AB88-5C03-4AC3-A346-1FF9F5A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2B0BF-B89F-475D-9D2C-C4466300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EAEA5-1485-449D-8350-A456610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369-14FE-45EE-AF5D-CDC0334E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53444-BC32-45DD-B81F-689BCCD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5ADAD-6E80-441B-B49E-8CB4E96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D37E-8FA4-425D-A5DB-CC87A0B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A55C1-62FB-45F8-ABBA-23AF5AD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AAD0E-3452-4218-98F2-B32D046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FFD4D-BDA9-40D6-BFF7-079FF304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3630-C515-426B-8787-C96D7746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99F-4569-4B46-A2F3-E4ED9556FA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36a7c"/>
              </a:gs>
              <a:gs pos="50000">
                <a:srgbClr val="7ab3c7"/>
              </a:gs>
              <a:gs pos="100000">
                <a:srgbClr val="336a7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1c9d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A30-40E3-40EC-ABFC-15D9279FEA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B5E1-9DDA-4DCB-A3E2-D1B3049683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9A55-FD47-4E86-9754-CDC66A7920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6319-8A0F-48BA-A2B2-04D8FE6C64A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2349-E5D2-46CA-AC04-B15A6C995B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b3b3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DFA2-FD06-40F2-BC51-12E43802B0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1c9d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08292"/>
              </a:gs>
              <a:gs pos="100000">
                <a:srgbClr val="9bc0ce"/>
              </a:gs>
            </a:gsLst>
            <a:lin ang="16200000"/>
          </a:gradFill>
          <a:ln cap="rnd" w="3240">
            <a:solidFill>
              <a:srgbClr val="4f7480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4d2d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4d2d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ea0b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caf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FC3-88E8-40C9-88B0-D721EEFC532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3.nl.edu/3c/faculty/virtual.cfm" TargetMode="External"/><Relationship Id="rId2" Type="http://schemas.openxmlformats.org/officeDocument/2006/relationships/hyperlink" Target="http://bookbuilder.cast.org/" TargetMode="External"/><Relationship Id="rId3" Type="http://schemas.openxmlformats.org/officeDocument/2006/relationships/hyperlink" Target="http://www.tolerance.org/" TargetMode="External"/><Relationship Id="rId4" Type="http://schemas.openxmlformats.org/officeDocument/2006/relationships/hyperlink" Target="http://www.tolerance.org/activity/everyone-s-helper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vocacyinstitute.org/UDL/NCLB.s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85000" cy="275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Presented b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Elena Garcia Ansani- 3C Project Coordin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National-Louis Univers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ontent Placeholder 4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89" name="Title 2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91" name="Title 2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93" name="Title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4549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will you develop your NBPTS – ENS action plan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9343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C Project at National-Louis Univers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http://www3.nl.edu/3c/faculty/virtual.cf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ST Book Build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2"/>
              </a:rPr>
              <a:t>http://bookbuilder.cast.or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aching Toler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3"/>
              </a:rPr>
              <a:t>http://www.tolerance.org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Lucida Sans Unicode"/>
                <a:hlinkClick r:id="rId4"/>
              </a:rPr>
              <a:t>http://www.tolerance.org/activity/everyone-s-help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Cornersto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a0b0"/>
                </a:solidFill>
                <a:latin typeface="Lucida Sans Unicode"/>
              </a:rPr>
              <a:t>http://thecornerstoneforteachers.com/free-resources/professional-development/nbp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228600"/>
            <a:ext cx="822960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AS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cast.org/index.htm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he CornerSton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thecornerstoneforteachers.com/free-resources/professional-development/nbp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ouncil for Exceptional Childr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cec.sped.org/Content/NavigationMenu/ProfessionalDevelopment/ProfessionalStandards/?from=tlcHome#Standard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tional Center on Universal Design for Learn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udlcenter.org/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tional Universal Design for Learning Task For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advocacyinstitute.org/UDL/NCLB.shtm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Teaching Tolera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ttp://www.tolerance.org/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268200" y="-463680"/>
            <a:ext cx="84250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scribe your classroom community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fin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diversity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fin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equity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Elementary and Secondary Education Act (ESEA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Reauthorization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Universal Design for Learn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Lucida Sans Unicode"/>
                <a:hlinkClick r:id="rId1"/>
              </a:rPr>
              <a:t>http://www.advocacyinstitute.org/UDL/NCLB.shtm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What are th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Principles for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Universal Design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for Learning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b3b3b"/>
                </a:solidFill>
                <a:latin typeface="Lucida Sans Unicode"/>
              </a:rPr>
              <a:t>Multiple means of representation,</a:t>
            </a: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 to give diverse learners options for acquiring information and knowledge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b3b3b"/>
                </a:solidFill>
                <a:latin typeface="Lucida Sans Unicode"/>
              </a:rPr>
              <a:t>Multiple means of action and expression,</a:t>
            </a: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 to provide learners options for demonstrating what they know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b3b3b"/>
                </a:solidFill>
                <a:latin typeface="Lucida Sans Unicode"/>
              </a:rPr>
              <a:t>Multiple means of engagement,</a:t>
            </a:r>
            <a:r>
              <a:rPr b="1" lang="en-US" sz="2700" spc="-1" strike="noStrike">
                <a:solidFill>
                  <a:srgbClr val="3b3b3b"/>
                </a:solidFill>
                <a:latin typeface="Lucida Sans Unicode"/>
              </a:rPr>
              <a:t> to tap into learners' interests, offer appropriate challenges, and increase motiv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How do you defin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the student profil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for your NBPTS – ENS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b3b3b"/>
                </a:solidFill>
                <a:latin typeface="Lucida Sans Unicode"/>
              </a:rPr>
              <a:t>portfolio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6ea0b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b3b3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387" name="Title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5838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02:32Z</dcterms:created>
  <dc:creator>elena.garciaansani</dc:creator>
  <dc:description/>
  <dc:language>en-US</dc:language>
  <cp:lastModifiedBy>elena.garciaansani</cp:lastModifiedBy>
  <dcterms:modified xsi:type="dcterms:W3CDTF">2010-11-29T00:34:21Z</dcterms:modified>
  <cp:revision>73</cp:revision>
  <dc:subject/>
  <dc:title>Resources for NBPTS Exceptional Needs Specialist </dc:title>
</cp:coreProperties>
</file>